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72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8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0880" y="388800"/>
            <a:ext cx="11701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72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404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08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880" y="388800"/>
            <a:ext cx="11701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728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64040" y="22827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508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77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880" y="388800"/>
            <a:ext cx="11701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760"/>
            <a:ext cx="570996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880" y="5236560"/>
            <a:ext cx="1170144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379080" cy="2616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8483760"/>
            <a:ext cx="13004640" cy="1269720"/>
          </a:xfrm>
          <a:prstGeom prst="rect">
            <a:avLst/>
          </a:prstGeom>
          <a:solidFill>
            <a:srgbClr val="197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74320" indent="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395280" y="9004320"/>
            <a:ext cx="10310760" cy="317520"/>
          </a:xfrm>
          <a:prstGeom prst="rect">
            <a:avLst/>
          </a:prstGeom>
          <a:solidFill>
            <a:srgbClr val="186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74320" indent="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701360" y="7467480"/>
            <a:ext cx="2303280" cy="22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95280" y="9004320"/>
            <a:ext cx="10310760" cy="317520"/>
          </a:xfrm>
          <a:prstGeom prst="rect">
            <a:avLst/>
          </a:prstGeom>
          <a:solidFill>
            <a:srgbClr val="186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0701360" y="7467480"/>
            <a:ext cx="230328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0880" y="2282760"/>
            <a:ext cx="1170144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74320" indent="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274320" indent="-27432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roslava.sobocka@nppc.sk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joint-research-centre.ec.europa.eu/eu-soil-observatory-euso_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data.europa.eu/doi/10.2777/97" TargetMode="External"/><Relationship Id="rId2" Type="http://schemas.openxmlformats.org/officeDocument/2006/relationships/hyperlink" Target="https://ec.europa.eu/eusurvey/runner/mission-soil-manifesto#page0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bdĺžnik 6"/>
          <p:cNvSpPr/>
          <p:nvPr/>
        </p:nvSpPr>
        <p:spPr>
          <a:xfrm>
            <a:off x="0" y="2401920"/>
            <a:ext cx="127839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6000" spc="-1" strike="noStrike">
                <a:solidFill>
                  <a:srgbClr val="336600"/>
                </a:solidFill>
                <a:latin typeface="Amasis MT Pro Black"/>
              </a:rPr>
              <a:t>LEGISLATÍVA EÚ </a:t>
            </a:r>
            <a:br>
              <a:rPr sz="6000"/>
            </a:br>
            <a:r>
              <a:rPr b="1" lang="sk-SK" sz="6000" spc="-1" strike="noStrike">
                <a:solidFill>
                  <a:srgbClr val="336600"/>
                </a:solidFill>
                <a:latin typeface="Amasis MT Pro Black"/>
              </a:rPr>
              <a:t>O MONITORINGU A ODOLNOSTI PÔDY (návrh)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7f7f7f"/>
                </a:solidFill>
                <a:latin typeface="Helvetica Light"/>
              </a:rPr>
              <a:t> </a:t>
            </a:r>
            <a:r>
              <a:rPr b="1" lang="sk-SK" sz="4000" spc="-1" strike="noStrike">
                <a:solidFill>
                  <a:srgbClr val="0070c0"/>
                </a:solidFill>
                <a:latin typeface="Helvetica Light"/>
              </a:rPr>
              <a:t>Monitoring and Resilience (Soil Health Monitoring Law</a:t>
            </a:r>
            <a:r>
              <a:rPr b="1" lang="sk-SK" sz="2800" spc="-1" strike="noStrike">
                <a:solidFill>
                  <a:srgbClr val="0070c0"/>
                </a:solidFill>
                <a:latin typeface="Helvetica Light"/>
              </a:rPr>
              <a:t>) </a:t>
            </a:r>
            <a:br>
              <a:rPr sz="2800"/>
            </a:br>
            <a:r>
              <a:rPr b="0" lang="sk-SK" sz="2800" spc="-1" strike="noStrike">
                <a:solidFill>
                  <a:srgbClr val="0070c0"/>
                </a:solidFill>
                <a:latin typeface="Helvetica Light"/>
              </a:rPr>
              <a:t>{SEC(2023) 416 final} - {SWD(2023) 416 final} - {SWD(2023) 417 final} - {SWD(2023) 418 final} - {SWD(2023) 423 final} 3333</a:t>
            </a:r>
            <a:endParaRPr b="0" lang="en-US" sz="2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1" name="Shape 12"/>
          <p:cNvSpPr/>
          <p:nvPr/>
        </p:nvSpPr>
        <p:spPr>
          <a:xfrm>
            <a:off x="528480" y="7176600"/>
            <a:ext cx="117223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Helvetica Light"/>
              </a:rPr>
              <a:t>Jaroslava Sobocká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 u="sng">
                <a:solidFill>
                  <a:srgbClr val="ccccff"/>
                </a:solidFill>
                <a:uFillTx/>
                <a:latin typeface="Helvetica Light"/>
                <a:hlinkClick r:id="rId1"/>
              </a:rPr>
              <a:t>jaroslava.sobocka@nppc.sk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22" name="Obrázok 2" descr=""/>
          <p:cNvPicPr/>
          <p:nvPr/>
        </p:nvPicPr>
        <p:blipFill>
          <a:blip r:embed="rId2"/>
          <a:stretch/>
        </p:blipFill>
        <p:spPr>
          <a:xfrm>
            <a:off x="10269360" y="1924200"/>
            <a:ext cx="2252880" cy="1765080"/>
          </a:xfrm>
          <a:prstGeom prst="rect">
            <a:avLst/>
          </a:prstGeom>
          <a:ln w="0">
            <a:noFill/>
          </a:ln>
        </p:spPr>
      </p:pic>
      <p:pic>
        <p:nvPicPr>
          <p:cNvPr id="123" name="Obrázok 4" descr=""/>
          <p:cNvPicPr/>
          <p:nvPr/>
        </p:nvPicPr>
        <p:blipFill>
          <a:blip r:embed="rId3"/>
          <a:stretch/>
        </p:blipFill>
        <p:spPr>
          <a:xfrm>
            <a:off x="8542440" y="339840"/>
            <a:ext cx="424152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2880" y="317520"/>
            <a:ext cx="117014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Definícia zdravia pôdy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9440" y="1496880"/>
            <a:ext cx="11702880" cy="70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...ako </a:t>
            </a:r>
            <a:r>
              <a:rPr b="0" lang="sk-SK" sz="4000" spc="-1" strike="noStrike">
                <a:solidFill>
                  <a:srgbClr val="009973"/>
                </a:solidFill>
                <a:latin typeface="Helvetica Light"/>
              </a:rPr>
              <a:t>„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schopnosť pôdy fungovať ako životne dôležitý živý systém v rámci ekosystémov a hraníc využívania pôdy, udržiavať produktivitu rastlín a zvierat, udržiavať alebo zlepšovať kvalitu vody a vzduchu a podporovať zdravie rastlín a zvierat</a:t>
            </a:r>
            <a:r>
              <a:rPr b="0" lang="sk-SK" sz="4000" spc="-1" strike="noStrike">
                <a:solidFill>
                  <a:srgbClr val="009973"/>
                </a:solidFill>
                <a:latin typeface="Helvetica Light"/>
              </a:rPr>
              <a:t>“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(Doran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&amp;</a:t>
            </a: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 Zeiss 2000)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000" spc="-1" strike="noStrike">
                <a:solidFill>
                  <a:srgbClr val="222222"/>
                </a:solidFill>
                <a:latin typeface="Helvetica Light"/>
              </a:rPr>
              <a:t>Historicky sa hodnotenie pôdy zameriavalo na produkciu plodín, ale dnes zdravie pôdy zahŕňa aj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úlohu pôdy v kvalite vody a potravín, k zmierneniu klimatickej zmeny a iných globálnych fenoménov a predovšetkým </a:t>
            </a:r>
            <a:r>
              <a:rPr b="1" lang="sk-SK" sz="4000" spc="-1" strike="noStrike" u="sng">
                <a:solidFill>
                  <a:srgbClr val="009973"/>
                </a:solidFill>
                <a:uFillTx/>
                <a:latin typeface="Helvetica Light"/>
              </a:rPr>
              <a:t>pre zdravie ľudí</a:t>
            </a:r>
            <a:r>
              <a:rPr b="0" lang="sk-SK" sz="4000" spc="-1" strike="noStrike">
                <a:solidFill>
                  <a:srgbClr val="222222"/>
                </a:solidFill>
                <a:latin typeface="Helvetica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objekt pre obsah 2"/>
          <p:cNvSpPr/>
          <p:nvPr/>
        </p:nvSpPr>
        <p:spPr>
          <a:xfrm>
            <a:off x="235080" y="1492200"/>
            <a:ext cx="12531600" cy="72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Pôda je zdravá, keď je v dobrom chemickom, biologickom a fyzikálnom stave, a preto je schopná nepretržite poskytovať čo najviac z nasledujúcich ekosystémových služieb</a:t>
            </a:r>
            <a:r>
              <a:rPr b="0" lang="sk-SK" sz="4000" spc="-1" strike="noStrike">
                <a:solidFill>
                  <a:srgbClr val="009973"/>
                </a:solidFill>
                <a:latin typeface="Helvetica Light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produkcia potravín a biomasy vrátane poľnohospodárstva a lesníctva;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absorbovať, uchovávať a filtrovať vodu a premieňať živiny a látky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základ pre život a biodiverzitu vrátane biotopov, druhov a génov;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zásobáreň uhlíka;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fyzická platforma a kultúrne služby pre ľudí a ich aktivity;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zdroj surovín;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4204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Helvetica Light"/>
              </a:rPr>
              <a:t>- archív geologického, geomorfologického a archeologického - dedičstva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5" name="Obdĺžnik 2"/>
          <p:cNvSpPr/>
          <p:nvPr/>
        </p:nvSpPr>
        <p:spPr>
          <a:xfrm>
            <a:off x="743040" y="384120"/>
            <a:ext cx="1151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Iná definícia zdravia pôdy</a:t>
            </a:r>
            <a:endParaRPr b="0" lang="en-US" sz="66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objekt pre obsah 2"/>
          <p:cNvSpPr/>
          <p:nvPr/>
        </p:nvSpPr>
        <p:spPr>
          <a:xfrm>
            <a:off x="668160" y="2139840"/>
            <a:ext cx="11361960" cy="69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39920" indent="-439920"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Opis možností sa rieši prostredníctvom </a:t>
            </a:r>
            <a:r>
              <a:rPr b="0" lang="sk-SK" sz="3800" spc="-1" strike="noStrike" u="sng">
                <a:solidFill>
                  <a:srgbClr val="009973"/>
                </a:solidFill>
                <a:uFillTx/>
                <a:latin typeface="Helvetica Light"/>
                <a:ea typeface="Calibri"/>
              </a:rPr>
              <a:t>piatich kľúčových stavebných panelov, 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ktoré stanovujú definície a povinnosti pre vytvorenie </a:t>
            </a:r>
            <a:r>
              <a:rPr b="1" lang="sk-SK" sz="3800" spc="-1" strike="noStrike" u="sng">
                <a:solidFill>
                  <a:srgbClr val="000000"/>
                </a:solidFill>
                <a:uFillTx/>
                <a:latin typeface="Helvetica Light"/>
                <a:ea typeface="Calibri"/>
              </a:rPr>
              <a:t>koherentnej legislatívy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39920" indent="-43992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1) definícia zdravia pôdy a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stanovenie okrskov pôdy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39920" indent="-43992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2)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monitorovanie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 zdravia pôdy (interval 7 rokov)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39920" indent="-43992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3) dlhodobo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udržateľné hospodárenie na pôde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39920" indent="-43992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4) identifikácia, registrácia, prieskum a hodnotenie 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kontaminovaných lokalí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39920" indent="-43992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5)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obnova </a:t>
            </a:r>
            <a:r>
              <a:rPr b="0" lang="sk-SK" sz="3800" spc="-1" strike="noStrike">
                <a:solidFill>
                  <a:srgbClr val="000000"/>
                </a:solidFill>
                <a:latin typeface="Helvetica Light"/>
                <a:ea typeface="Calibri"/>
              </a:rPr>
              <a:t>(regenerácia)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stavu pôdy a sanácia 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3800" spc="-1" strike="noStrike">
                <a:solidFill>
                  <a:srgbClr val="009973"/>
                </a:solidFill>
                <a:latin typeface="Helvetica Light"/>
                <a:ea typeface="Calibri"/>
              </a:rPr>
              <a:t>kontaminovaných lokalí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879840" indent="-43956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Helvetica Light"/>
            </a:endParaRPr>
          </a:p>
          <a:p>
            <a:pPr lvl="1" marL="879840" indent="-43956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7" name="Obdĺžnik 2"/>
          <p:cNvSpPr/>
          <p:nvPr/>
        </p:nvSpPr>
        <p:spPr>
          <a:xfrm>
            <a:off x="309600" y="484200"/>
            <a:ext cx="1269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800" spc="-1" strike="noStrike">
                <a:solidFill>
                  <a:srgbClr val="262699"/>
                </a:solidFill>
                <a:latin typeface="Arial Black"/>
              </a:rPr>
              <a:t> </a:t>
            </a:r>
            <a:r>
              <a:rPr b="1" i="1" lang="sk-SK" sz="4800" spc="-1" strike="noStrike">
                <a:solidFill>
                  <a:srgbClr val="0070c0"/>
                </a:solidFill>
                <a:latin typeface="Helvetica Light"/>
              </a:rPr>
              <a:t>Aká je podstata návrhu Smernice o monitoringu a odolnosti pôdy?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Prílohy Smernice o monitoringu a odolnosti pôdy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67800" y="2426760"/>
            <a:ext cx="11701800" cy="65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</a:rPr>
              <a:t>Príloha I.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PÔDNE DESKRIPTORY A INDIKÁTORY A KRITÉRIÁ  ZDRAVÉHO 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STAVU PÔDY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II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METODOLÓGI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III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ZÁSADY UDRŽATEĽNÉHO HOSPODÁRENIA NA PÔD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IV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PROGRAMY, PLÁNY A OPATRENIA UVEDENÉ V ČLÁNKU 10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V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ORIENTAČNÝ ZOZNAM OPATRENÍ NA ZNÍŽENIE RIZIKA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VI </a:t>
            </a: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FÁZY A POŽIADAVKY NA HODNOTENIE RIZIKA 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	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ŠPECIFICKÉHO MIESTA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50000"/>
              </a:lnSpc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loha VII </a:t>
            </a:r>
            <a:r>
              <a:rPr b="1" lang="sk-SK" sz="2800" spc="-1" strike="noStrike">
                <a:solidFill>
                  <a:srgbClr val="009973"/>
                </a:solidFill>
                <a:latin typeface="Helvetica Light"/>
                <a:ea typeface="Calibri"/>
              </a:rPr>
              <a:t>REGISTRÁCIA POTENCIÁLNE KONTAMINOVANÝCH MIEST A  KONTAMINOVANÝCH MIEST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 algn="ctr"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07000"/>
              </a:lnSpc>
              <a:spcBef>
                <a:spcPts val="4201"/>
              </a:spcBef>
              <a:spcAft>
                <a:spcPts val="799"/>
              </a:spcAft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 algn="ctr">
              <a:lnSpc>
                <a:spcPct val="107000"/>
              </a:lnSpc>
              <a:spcBef>
                <a:spcPts val="4201"/>
              </a:spcBef>
              <a:spcAft>
                <a:spcPts val="799"/>
              </a:spcAft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 algn="ctr">
              <a:lnSpc>
                <a:spcPct val="107000"/>
              </a:lnSpc>
              <a:spcBef>
                <a:spcPts val="4201"/>
              </a:spcBef>
              <a:spcAft>
                <a:spcPts val="799"/>
              </a:spcAft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1585440" indent="-158544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01560" y="1017720"/>
          <a:ext cx="12020760" cy="7961040"/>
        </p:xfrm>
        <a:graphic>
          <a:graphicData uri="http://schemas.openxmlformats.org/drawingml/2006/table">
            <a:tbl>
              <a:tblPr/>
              <a:tblGrid>
                <a:gridCol w="3214800"/>
                <a:gridCol w="4325760"/>
                <a:gridCol w="448020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Aspekt degradácie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Pôdny deskri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Kritériá pre zdravý stav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alinizác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Elektrická vodivosť (deci-Siemens na met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&lt;4 dS m</a:t>
                      </a:r>
                      <a:r>
                        <a:rPr b="0" lang="en-IE" sz="2400" spc="-1" strike="noStrike" baseline="30000">
                          <a:solidFill>
                            <a:srgbClr val="000000"/>
                          </a:solidFill>
                          <a:latin typeface="Helvetica Light"/>
                        </a:rPr>
                        <a:t>−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Erózia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Miera erózie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(tony na hektár za rok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≤ 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2 tony/hektár/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rata pôdneho organického uhlí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Koncentrácia pôdneho organického uhlíka (SOC) (g/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Helvetica Ligh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Pre organické pôdy: dodržiavať ciele stanovené na národnej úrovni podľa Nariadenia EP a Ra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285840" indent="-2858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Helvetica Ligh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Pre minerálne pôdy pomer SOC/íl &gt; 1/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0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Kompakcia podpovrchového horizont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Objemová hmotnosť v podpovrchovom B horizonte; ČŠ môžu ho nahradiť ekvivalentným parametrom (g/cm</a:t>
                      </a:r>
                      <a:r>
                        <a:rPr b="0" lang="sk-SK" sz="2400" spc="-1" strike="noStrike" baseline="30000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3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ľa pôdnej textúry rozpísanej v tabuľke návrhu Zákona o zdraví pôd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51" name="BlokTextu 4"/>
          <p:cNvSpPr/>
          <p:nvPr/>
        </p:nvSpPr>
        <p:spPr>
          <a:xfrm>
            <a:off x="2828880" y="1872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800" spc="-1" strike="noStrike">
                <a:solidFill>
                  <a:srgbClr val="0070c0"/>
                </a:solidFill>
                <a:latin typeface="Helvetica Light"/>
                <a:ea typeface="Calibri"/>
              </a:rPr>
              <a:t>Pôdne deskriptory 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01560" y="1017720"/>
          <a:ext cx="12020760" cy="7692840"/>
        </p:xfrm>
        <a:graphic>
          <a:graphicData uri="http://schemas.openxmlformats.org/drawingml/2006/table">
            <a:tbl>
              <a:tblPr/>
              <a:tblGrid>
                <a:gridCol w="3214800"/>
                <a:gridCol w="4325760"/>
                <a:gridCol w="448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Aspekt degradácie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Pôdny deskri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00"/>
                          </a:solidFill>
                          <a:latin typeface="Helvetica Light"/>
                        </a:rPr>
                        <a:t>Kritériá pre zdravý stav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Nadmerný obsah živín v pô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Extrahovateľný fosfor (mg/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&lt; „maximálna hodnota“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„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aximálnu hodnotu“ má stanoviť členský štát v rozsahu 30 – 50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Kontaminácia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- koncentrácia ťažkých kovov v pôde: As, Sb, Cd, Co, Cr (celkový), Cr (VI), Cu, Hg, Pb, Ni, Tl, V, Zn (mg/kg pre všetky okrem µg/kg pre Hg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  </a:t>
                      </a: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- koncentrácia vybraných organických kontaminantov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Rozumné uistenie, že neexistuje žiadne neprijateľné riziko pre ľudské zdravie a životné prostredie z hľadiska kontaminácie pô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Zníženie schopnosti pôdy zadržiavať vod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Kapacita pôdy zadržiavať vodu (% objemu vody / objem nasýtenej pôd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Odhadovaná hodnota celkovej vodnej kapacity pôdneho okrsku podľa povodia alebo čiastkového povodia je nad minimálnym limito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3" name="BlokTextu 4"/>
          <p:cNvSpPr/>
          <p:nvPr/>
        </p:nvSpPr>
        <p:spPr>
          <a:xfrm>
            <a:off x="2828880" y="1872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800" spc="-1" strike="noStrike">
                <a:solidFill>
                  <a:srgbClr val="0070c0"/>
                </a:solidFill>
                <a:latin typeface="Helvetica Light"/>
                <a:ea typeface="Calibri"/>
              </a:rPr>
              <a:t>Pôdne deskriptory 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39800" y="1233360"/>
          <a:ext cx="11522160" cy="7753320"/>
        </p:xfrm>
        <a:graphic>
          <a:graphicData uri="http://schemas.openxmlformats.org/drawingml/2006/table">
            <a:tbl>
              <a:tblPr/>
              <a:tblGrid>
                <a:gridCol w="3960720"/>
                <a:gridCol w="7561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Aspekt degradácie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Pôdny deskrip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Nadmerný obsah živín v pô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usík v pôde (mg/k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Acidifiká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pH in H</a:t>
                      </a:r>
                      <a:r>
                        <a:rPr b="0" lang="sk-SK" sz="2800" spc="-1" strike="noStrike" baseline="-25000">
                          <a:solidFill>
                            <a:srgbClr val="000000"/>
                          </a:solidFill>
                          <a:latin typeface="Helvetica Light"/>
                        </a:rPr>
                        <a:t>2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O a CaCl</a:t>
                      </a:r>
                      <a:r>
                        <a:rPr b="0" lang="sk-SK" sz="2800" spc="-1" strike="noStrike" baseline="-25000">
                          <a:solidFill>
                            <a:srgbClr val="000000"/>
                          </a:solidFill>
                          <a:latin typeface="Helvetica Light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Kompakcia povrchového horizont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Objemová hmotnosť v povrchovom horizonte (A-horizont) (g/c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7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Helvetica Light"/>
                          <a:ea typeface="Calibri"/>
                        </a:rPr>
                        <a:t>Strata biodiverzity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Potenciálna pôdna bazálna respirácia (µL O</a:t>
                      </a:r>
                      <a:r>
                        <a:rPr b="0" lang="sk-SK" sz="2800" spc="-1" strike="noStrike" baseline="-25000">
                          <a:solidFill>
                            <a:srgbClr val="000000"/>
                          </a:solidFill>
                          <a:latin typeface="Helvetica Light"/>
                        </a:rPr>
                        <a:t>2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/(g hmotnosti sušiny za hodin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Okrem toho si členské štáty môžu vybrať iné deskriptory pôdnej biodiverzity, ako napríklad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etabarcoding baktérií, húb a zvierat; (určenie DN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nožstvo a rozmanitosť nematód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iikrobiálna biomasa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nožstvo a rozmanitosť dážďoviek (v ornej pôd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55" name="BlokTextu 11"/>
          <p:cNvSpPr/>
          <p:nvPr/>
        </p:nvSpPr>
        <p:spPr>
          <a:xfrm>
            <a:off x="2757600" y="3492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800" spc="-1" strike="noStrike">
                <a:solidFill>
                  <a:srgbClr val="0070c0"/>
                </a:solidFill>
                <a:latin typeface="Helvetica Light"/>
                <a:ea typeface="Calibri"/>
              </a:rPr>
              <a:t>Pôdne deskriptory bez kritérií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028880" y="1492200"/>
          <a:ext cx="11521800" cy="8120160"/>
        </p:xfrm>
        <a:graphic>
          <a:graphicData uri="http://schemas.openxmlformats.org/drawingml/2006/table">
            <a:tbl>
              <a:tblPr/>
              <a:tblGrid>
                <a:gridCol w="3600360"/>
                <a:gridCol w="7921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Aspekt degradácie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Pôdny deskrip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3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Artifikácia (umelý pokryv) pôdy a nepriepustné pokrytie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Zábery pôd (celkovo v km² a % povrchu členského štát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Čistý záber pôdy (priemer za rok v km² a % plochy členského štát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Nepriepustné pokrytie pôdy (celkovo v km² a % povrchu členského štátu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Okrem toho môžu ČŠ merať ďalšie súvisiace ukazovatele, ako napríklad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Fragmentácia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Miera recyklácie pô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Zábery pôd na komerčné aktivity, logistické uzly, obnoviteľné zdroje energie, povrchy ako letiská, cesty, bane, a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ôsledky záberov pôd ako kvantifikácia straty ekosystémových služieb, zmena intenzity zápla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7" name="BlokTextu 4"/>
          <p:cNvSpPr/>
          <p:nvPr/>
        </p:nvSpPr>
        <p:spPr>
          <a:xfrm>
            <a:off x="3044880" y="48420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400" spc="-1" strike="noStrike">
                <a:solidFill>
                  <a:srgbClr val="0070c0"/>
                </a:solidFill>
                <a:latin typeface="Helvetica Light"/>
                <a:ea typeface="Calibri"/>
              </a:rPr>
              <a:t>Pôdne deskriptory bez kritérií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0_fig1_soilsealing"/>
          <p:cNvPicPr/>
          <p:nvPr/>
        </p:nvPicPr>
        <p:blipFill>
          <a:blip r:embed="rId1"/>
          <a:stretch/>
        </p:blipFill>
        <p:spPr>
          <a:xfrm>
            <a:off x="204840" y="1495440"/>
            <a:ext cx="12492000" cy="7101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19000" y="790560"/>
            <a:ext cx="1136520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0070c0"/>
                </a:solidFill>
                <a:latin typeface="Helvetica Light"/>
                <a:ea typeface="Times New Roman"/>
              </a:rPr>
              <a:t>Zábery pôd vs nepriepustné pokrytie pôdy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221600" y="8290080"/>
            <a:ext cx="419904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1900" spc="-1" strike="noStrike">
                <a:solidFill>
                  <a:srgbClr val="000000"/>
                </a:solidFill>
                <a:latin typeface="Helvetica Light"/>
              </a:rPr>
              <a:t>Príklad pokryvu pôd obytnými priestormi, dlažbou ciest s otvorenými zelenými plochami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73240" y="8596440"/>
            <a:ext cx="419904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1900" spc="-1" strike="noStrike">
                <a:solidFill>
                  <a:srgbClr val="000000"/>
                </a:solidFill>
                <a:latin typeface="Helvetica Light"/>
              </a:rPr>
              <a:t>Záber pôdy pre nepoľnohospodárske účely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390240"/>
            <a:ext cx="1253484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5100" spc="-1" strike="noStrike">
                <a:solidFill>
                  <a:srgbClr val="0070c0"/>
                </a:solidFill>
                <a:latin typeface="Helvetica Light"/>
              </a:rPr>
              <a:t>Európske observatórium o pôde </a:t>
            </a:r>
            <a:r>
              <a:rPr b="1" i="1" lang="en-US" sz="5100" spc="-1" strike="noStrike">
                <a:solidFill>
                  <a:srgbClr val="0070c0"/>
                </a:solidFill>
                <a:latin typeface="Helvetica Light"/>
              </a:rPr>
              <a:t>(EUSO) 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96680" y="1347480"/>
            <a:ext cx="119221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400" spc="-1" strike="noStrike">
                <a:solidFill>
                  <a:srgbClr val="009973"/>
                </a:solidFill>
                <a:latin typeface="Helvetica Light"/>
              </a:rPr>
              <a:t>Poskytovanie poznatkov o pôde a údajových tokov </a:t>
            </a:r>
            <a:r>
              <a:rPr b="0" lang="sk-SK" sz="3400" spc="-1" strike="noStrike">
                <a:solidFill>
                  <a:srgbClr val="000000"/>
                </a:solidFill>
                <a:latin typeface="Helvetica Light"/>
              </a:rPr>
              <a:t>potrebných na ochranu pôdy útvarom Európskej Komisie a širšej komunite užívateľov pôdy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400" spc="-1" strike="noStrike">
                <a:solidFill>
                  <a:srgbClr val="000000"/>
                </a:solidFill>
                <a:latin typeface="Helvetica Light"/>
              </a:rPr>
              <a:t>Podpora výskumu a inovácií EÚ v oblasti pôdy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400" spc="-1" strike="noStrike">
                <a:solidFill>
                  <a:srgbClr val="000000"/>
                </a:solidFill>
                <a:latin typeface="Helvetica Light"/>
              </a:rPr>
              <a:t>Zvyšovanie povedomia spoločnosti o hodnote pôdy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400" spc="-1" strike="noStrike" u="sng">
                <a:solidFill>
                  <a:srgbClr val="ccccff"/>
                </a:solidFill>
                <a:uFillTx/>
                <a:latin typeface="Helvetica Light"/>
                <a:hlinkClick r:id="rId1"/>
              </a:rPr>
              <a:t>https://joint-research-centre.ec.europa.eu/eu-soil-observatory-euso_en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4" name="Picture 2" descr="EU Soil Observatory launched to monitor trends of soil ..."/>
          <p:cNvPicPr/>
          <p:nvPr/>
        </p:nvPicPr>
        <p:blipFill>
          <a:blip r:embed="rId2"/>
          <a:stretch/>
        </p:blipFill>
        <p:spPr>
          <a:xfrm>
            <a:off x="4950000" y="4986360"/>
            <a:ext cx="77990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4160" y="406440"/>
            <a:ext cx="1147608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Úvod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520" y="1563840"/>
            <a:ext cx="11981160" cy="73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Environmentálna degradácia, spolu s potenciálne devastačnými účinkami klimatickej zmeny </a:t>
            </a:r>
            <a:r>
              <a:rPr b="1" lang="sk-SK" sz="3600" spc="-1" strike="noStrike">
                <a:solidFill>
                  <a:srgbClr val="00b050"/>
                </a:solidFill>
                <a:latin typeface="Helvetica Light"/>
              </a:rPr>
              <a:t>ohrozuje stabilitu systému Zeme </a:t>
            </a: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a rozvoj výdobytkov  dosiahnutých v posledných desaťročiach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Degradácia krajiny je hrozba globálnej udržateľnosti, ktorá ovplyvňuje odhadom </a:t>
            </a:r>
            <a:r>
              <a:rPr b="1" lang="sk-SK" sz="3600" spc="-1" strike="noStrike">
                <a:solidFill>
                  <a:srgbClr val="009973"/>
                </a:solidFill>
                <a:latin typeface="Helvetica Light"/>
              </a:rPr>
              <a:t>25 % rozlohy využívanej krajiny  sveta, </a:t>
            </a: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so sprievodnými javmi straty uhlíka a zvýšenými emisiami do atmosféry (podľa UN FAO)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9973"/>
                </a:solidFill>
                <a:latin typeface="Helvetica Light"/>
              </a:rPr>
              <a:t>Klimatická zmena, strata biodiverzity, degradácia krajiny, dezertifikácia a sucho </a:t>
            </a: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sú hlavnými faktormi nepriaznivého vývoja sveta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155160"/>
            <a:ext cx="115585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400" spc="-1" strike="noStrike">
                <a:solidFill>
                  <a:srgbClr val="0070c0"/>
                </a:solidFill>
                <a:latin typeface="Helvetica Light"/>
              </a:rPr>
              <a:t>HORIZON EUROPE </a:t>
            </a:r>
            <a:br>
              <a:rPr sz="4400"/>
            </a:br>
            <a:r>
              <a:rPr b="1" i="1" lang="sk-SK" sz="4400" spc="-1" strike="noStrike">
                <a:solidFill>
                  <a:srgbClr val="0070c0"/>
                </a:solidFill>
                <a:latin typeface="Helvetica Light"/>
              </a:rPr>
              <a:t>výskumný program EÚ – 5 misií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5520" y="2382480"/>
            <a:ext cx="12152160" cy="63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Helvetica Ligh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Prispôsobiť sa </a:t>
            </a: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zmene klímy </a:t>
            </a: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– podporiť aspoň 150 regiónov odolných voči zmene klímy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Helvetica Ligh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Rakovina </a:t>
            </a: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– na zlepšenie života 3 mil. ľudí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Helvetica Ligh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Obnoviť </a:t>
            </a: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oceány a vodné plochy </a:t>
            </a: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do roku 2030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Helvetica Ligh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Vytvoriť 100 klimaticky </a:t>
            </a: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neutrálnych a inteligentných miest</a:t>
            </a: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 do roku 2030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Helvetica Ligh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Dohoda o pôde pre Európu </a:t>
            </a:r>
            <a:r>
              <a:rPr b="0" lang="sk-SK" sz="3900" spc="-1" strike="noStrike">
                <a:solidFill>
                  <a:srgbClr val="000000"/>
                </a:solidFill>
                <a:latin typeface="Helvetica Light"/>
              </a:rPr>
              <a:t>– 100 živých laboratórií a majákov bude viesť prechod k zdravej pôde do roku 2030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3900" spc="-1" strike="noStrike">
                <a:solidFill>
                  <a:srgbClr val="c00000"/>
                </a:solidFill>
                <a:latin typeface="Helvetica Light"/>
              </a:rPr>
              <a:t>​</a:t>
            </a:r>
            <a:r>
              <a:rPr b="1" lang="sk-SK" sz="3900" spc="-1" strike="noStrike">
                <a:solidFill>
                  <a:srgbClr val="c00000"/>
                </a:solidFill>
                <a:latin typeface="Helvetica Light"/>
              </a:rPr>
              <a:t>Pôda nikdy nebola predmetom výskumu v rámci misií EÚ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7" name="Picture 8" descr="Horizon Europe - Innovation Partnering - Success Story"/>
          <p:cNvPicPr/>
          <p:nvPr/>
        </p:nvPicPr>
        <p:blipFill>
          <a:blip r:embed="rId1"/>
          <a:stretch/>
        </p:blipFill>
        <p:spPr>
          <a:xfrm>
            <a:off x="8373960" y="264960"/>
            <a:ext cx="3446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1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Grafika najväčších výziev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9" name="Picture 2" descr="Mission: “A Soil Deal for Europe” | Papillons H2020"/>
          <p:cNvPicPr/>
          <p:nvPr/>
        </p:nvPicPr>
        <p:blipFill>
          <a:blip r:embed="rId1"/>
          <a:stretch/>
        </p:blipFill>
        <p:spPr>
          <a:xfrm>
            <a:off x="165240" y="1995480"/>
            <a:ext cx="126727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14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a49800"/>
                </a:solidFill>
                <a:latin typeface="Helvetica Light"/>
              </a:rPr>
              <a:t>Dohoda o pôde pre Európu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1" name="Picture 2" descr="Q/A: EU Soil Mission wants your research proposals before 24 March 2022"/>
          <p:cNvPicPr/>
          <p:nvPr/>
        </p:nvPicPr>
        <p:blipFill>
          <a:blip r:embed="rId1"/>
          <a:stretch/>
        </p:blipFill>
        <p:spPr>
          <a:xfrm>
            <a:off x="241200" y="1908000"/>
            <a:ext cx="125208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50880" y="1803240"/>
            <a:ext cx="11701440" cy="681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a49800"/>
                </a:solidFill>
                <a:latin typeface="Helvetica Light"/>
              </a:rPr>
              <a:t>Misia „Dohoda o pôde pre Európu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“  podporuje prechod k zdravej pôde do roku 2030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Chce zaviesť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efektívnu sieť 100 živých laboratórií a majákov</a:t>
            </a:r>
            <a:r>
              <a:rPr b="0" lang="sk-SK" sz="4400" spc="-1" strike="noStrike">
                <a:solidFill>
                  <a:srgbClr val="32946a"/>
                </a:solidFill>
                <a:latin typeface="Helvetica Light"/>
              </a:rPr>
              <a:t>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vo vidieckych, lesných a urbánnych oblastiach.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Okrem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vytvárania nových poznatkov a riešení pre zdravie pôdy</a:t>
            </a:r>
            <a:r>
              <a:rPr b="0" lang="sk-SK" sz="4400" spc="-1" strike="noStrike">
                <a:solidFill>
                  <a:srgbClr val="32946a"/>
                </a:solidFill>
                <a:latin typeface="Helvetica Light"/>
              </a:rPr>
              <a:t>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bude misia napredovať vo vytváraní harmonizovaného rámca pre monitorovanie pôdy v Európe a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zvýšenie povedomia ľudí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o kľúčovom význame pôdy.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312120" indent="-31212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0120" y="677880"/>
            <a:ext cx="11701440" cy="8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Dohoda o pôde pre Európu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880" y="425160"/>
            <a:ext cx="1170144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Ciele Misie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9240" y="1389240"/>
            <a:ext cx="12604680" cy="79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Cieľ 1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: redukovať degradáciu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pôdy vrátane dezertifikácie a salinizácie, obnoviť 50 % degradovanej pôdy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76200" indent="-376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Cieľ 2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: zachovať zásoby organického uhlíka v pôde</a:t>
            </a:r>
            <a:r>
              <a:rPr b="0" lang="sk-SK" sz="4000" spc="-1" strike="noStrike">
                <a:solidFill>
                  <a:srgbClr val="32946a"/>
                </a:solidFill>
                <a:latin typeface="Helvetica Light"/>
              </a:rPr>
              <a:t>: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zvýšiť koncentráciu C na obrábanej pôde o 0,1 – 0,4 % ročne; plochu rašelinísk strácajúcich C znížiť o 30-50 %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76200" indent="-376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Cieľ 3: 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nulové zábery pôdy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do roku 2050 a zvýšiť opätovné využitie urbánnej pôdy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76200" indent="-376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Cieľ 4</a:t>
            </a:r>
            <a:r>
              <a:rPr b="0" lang="sk-SK" sz="4000" spc="-1" strike="noStrike">
                <a:solidFill>
                  <a:srgbClr val="32946a"/>
                </a:solidFill>
                <a:latin typeface="Helvetica Light"/>
              </a:rPr>
              <a:t>: 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znížiť znečistenie pôdy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a zlepšiť obnovu – najmenej </a:t>
            </a: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25 % plochy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poľnohospodárskej pôdy EÚ v ekologickom poľnohospodárstve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55480" y="1803240"/>
            <a:ext cx="1189224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9120" indent="-249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 u="sng">
                <a:solidFill>
                  <a:srgbClr val="32946a"/>
                </a:solidFill>
                <a:uFillTx/>
                <a:latin typeface="Helvetica Light"/>
              </a:rPr>
              <a:t>Cieľ 5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: predchádzať a zastaviť eróziu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na 30 – 50 % pôdy s neudržateľnou mierou erózie;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249120" indent="-249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 u="sng">
                <a:solidFill>
                  <a:srgbClr val="32946a"/>
                </a:solidFill>
                <a:uFillTx/>
                <a:latin typeface="Helvetica Light"/>
              </a:rPr>
              <a:t>Cieľ 6: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zlepšiť štruktúru pôdy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pre zlepšenie kvality biotopov (pôdna biota a plodiny); znížiť výskyt podorničnej vrstvy o 30-50 %;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249120" indent="-249120"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 u="sng">
                <a:solidFill>
                  <a:srgbClr val="32946a"/>
                </a:solidFill>
                <a:uFillTx/>
                <a:latin typeface="Helvetica Light"/>
              </a:rPr>
              <a:t>Cieľ 7: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znížiť o 20 – 40 %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celosvetovú stopu pôdy cez dovoz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potravín a dreva do EÚ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249120" indent="-249120"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 u="sng">
                <a:solidFill>
                  <a:srgbClr val="32946a"/>
                </a:solidFill>
                <a:uFillTx/>
                <a:latin typeface="Helvetica Light"/>
              </a:rPr>
              <a:t>Cieľ 8</a:t>
            </a:r>
            <a:r>
              <a:rPr b="1" lang="sk-SK" sz="4400" spc="-1" strike="noStrike" u="sng">
                <a:solidFill>
                  <a:srgbClr val="000000"/>
                </a:solidFill>
                <a:uFillTx/>
                <a:latin typeface="Helvetica Light"/>
              </a:rPr>
              <a:t>: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výrazne zlepšiť </a:t>
            </a:r>
            <a:r>
              <a:rPr b="1" lang="sk-SK" sz="4400" spc="-1" strike="noStrike">
                <a:solidFill>
                  <a:srgbClr val="32946a"/>
                </a:solidFill>
                <a:latin typeface="Helvetica Light"/>
              </a:rPr>
              <a:t>pôdnu gramotnosť </a:t>
            </a:r>
            <a:r>
              <a:rPr b="0" lang="sk-SK" sz="4400" spc="-1" strike="noStrike">
                <a:solidFill>
                  <a:srgbClr val="000000"/>
                </a:solidFill>
                <a:latin typeface="Helvetica Light"/>
              </a:rPr>
              <a:t>vo všetkých členských štátoch.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249120" indent="-249120">
              <a:spcBef>
                <a:spcPts val="42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249120" indent="-24912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Nadpis 1"/>
          <p:cNvSpPr/>
          <p:nvPr/>
        </p:nvSpPr>
        <p:spPr>
          <a:xfrm>
            <a:off x="236520" y="555480"/>
            <a:ext cx="11701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Ciele Misie</a:t>
            </a:r>
            <a:endParaRPr b="0" lang="en-US" sz="66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Kresliace plátno 39"/>
          <p:cNvGrpSpPr/>
          <p:nvPr/>
        </p:nvGrpSpPr>
        <p:grpSpPr>
          <a:xfrm>
            <a:off x="154080" y="576360"/>
            <a:ext cx="12636360" cy="8219880"/>
            <a:chOff x="154080" y="576360"/>
            <a:chExt cx="12636360" cy="8219880"/>
          </a:xfrm>
        </p:grpSpPr>
        <p:sp>
          <p:nvSpPr>
            <p:cNvPr id="179" name="Obdĺžnik 2"/>
            <p:cNvSpPr/>
            <p:nvPr/>
          </p:nvSpPr>
          <p:spPr>
            <a:xfrm>
              <a:off x="154080" y="576360"/>
              <a:ext cx="12636360" cy="82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0" name="Zaoblený obdĺžnik 3"/>
            <p:cNvSpPr/>
            <p:nvPr/>
          </p:nvSpPr>
          <p:spPr>
            <a:xfrm>
              <a:off x="709560" y="587160"/>
              <a:ext cx="11295000" cy="125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3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Vizualizácia mierok a aktivít živých laboratórií a majákov</a:t>
              </a: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 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1" name="Ovál 4"/>
            <p:cNvSpPr/>
            <p:nvPr/>
          </p:nvSpPr>
          <p:spPr>
            <a:xfrm>
              <a:off x="519120" y="3041640"/>
              <a:ext cx="5837040" cy="5754600"/>
            </a:xfrm>
            <a:prstGeom prst="ellipse">
              <a:avLst/>
            </a:prstGeom>
            <a:solidFill>
              <a:srgbClr val="adadeb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2" name="Ovál 5"/>
            <p:cNvSpPr/>
            <p:nvPr/>
          </p:nvSpPr>
          <p:spPr>
            <a:xfrm>
              <a:off x="4665600" y="451656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3" name="Ovál 6"/>
            <p:cNvSpPr/>
            <p:nvPr/>
          </p:nvSpPr>
          <p:spPr>
            <a:xfrm>
              <a:off x="3537000" y="4070160"/>
              <a:ext cx="44748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4" name="Ovál 7"/>
            <p:cNvSpPr/>
            <p:nvPr/>
          </p:nvSpPr>
          <p:spPr>
            <a:xfrm>
              <a:off x="1928880" y="5113440"/>
              <a:ext cx="1299960" cy="12999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5" name="Ovál 8"/>
            <p:cNvSpPr/>
            <p:nvPr/>
          </p:nvSpPr>
          <p:spPr>
            <a:xfrm>
              <a:off x="2806560" y="4692600"/>
              <a:ext cx="1299960" cy="1299960"/>
            </a:xfrm>
            <a:prstGeom prst="ellipse">
              <a:avLst/>
            </a:prstGeom>
            <a:solidFill>
              <a:srgbClr val="73737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6" name="Ovál 9"/>
            <p:cNvSpPr/>
            <p:nvPr/>
          </p:nvSpPr>
          <p:spPr>
            <a:xfrm>
              <a:off x="3321000" y="5289480"/>
              <a:ext cx="1299960" cy="1299960"/>
            </a:xfrm>
            <a:prstGeom prst="ellipse">
              <a:avLst/>
            </a:prstGeom>
            <a:solidFill>
              <a:srgbClr val="d2d2f4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7" name="Ovál 10"/>
            <p:cNvSpPr/>
            <p:nvPr/>
          </p:nvSpPr>
          <p:spPr>
            <a:xfrm>
              <a:off x="2047680" y="5762520"/>
              <a:ext cx="1299960" cy="1299960"/>
            </a:xfrm>
            <a:prstGeom prst="ellipse">
              <a:avLst/>
            </a:prstGeom>
            <a:solidFill>
              <a:srgbClr val="00b88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8" name="Ovál 11"/>
            <p:cNvSpPr/>
            <p:nvPr/>
          </p:nvSpPr>
          <p:spPr>
            <a:xfrm>
              <a:off x="2224080" y="4070160"/>
              <a:ext cx="44604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89" name="Ovál 12"/>
            <p:cNvSpPr/>
            <p:nvPr/>
          </p:nvSpPr>
          <p:spPr>
            <a:xfrm>
              <a:off x="1289160" y="484200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0" name="Ovál 13"/>
            <p:cNvSpPr/>
            <p:nvPr/>
          </p:nvSpPr>
          <p:spPr>
            <a:xfrm>
              <a:off x="992160" y="6413400"/>
              <a:ext cx="44604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1" name="Ovál 14"/>
            <p:cNvSpPr/>
            <p:nvPr/>
          </p:nvSpPr>
          <p:spPr>
            <a:xfrm>
              <a:off x="2047680" y="763128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2" name="Ovál 15"/>
            <p:cNvSpPr/>
            <p:nvPr/>
          </p:nvSpPr>
          <p:spPr>
            <a:xfrm>
              <a:off x="3368520" y="7631280"/>
              <a:ext cx="44604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3" name="Ovál 16"/>
            <p:cNvSpPr/>
            <p:nvPr/>
          </p:nvSpPr>
          <p:spPr>
            <a:xfrm>
              <a:off x="4648320" y="746928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4" name="Ovál 17"/>
            <p:cNvSpPr/>
            <p:nvPr/>
          </p:nvSpPr>
          <p:spPr>
            <a:xfrm>
              <a:off x="5649840" y="653436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5" name="Ovál 19"/>
            <p:cNvSpPr/>
            <p:nvPr/>
          </p:nvSpPr>
          <p:spPr>
            <a:xfrm>
              <a:off x="2900160" y="6168960"/>
              <a:ext cx="1301760" cy="1299960"/>
            </a:xfrm>
            <a:prstGeom prst="ellipse">
              <a:avLst/>
            </a:prstGeom>
            <a:solidFill>
              <a:srgbClr val="c2fff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6" name="Ovál 21"/>
            <p:cNvSpPr/>
            <p:nvPr/>
          </p:nvSpPr>
          <p:spPr>
            <a:xfrm>
              <a:off x="3144960" y="3379680"/>
              <a:ext cx="44748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7" name="Ovál 22"/>
            <p:cNvSpPr/>
            <p:nvPr/>
          </p:nvSpPr>
          <p:spPr>
            <a:xfrm>
              <a:off x="4665600" y="3825720"/>
              <a:ext cx="447480" cy="44748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98" name="Ovál 23"/>
            <p:cNvSpPr/>
            <p:nvPr/>
          </p:nvSpPr>
          <p:spPr>
            <a:xfrm>
              <a:off x="5514840" y="5113440"/>
              <a:ext cx="44748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pic>
          <p:nvPicPr>
            <p:cNvPr id="199" name="Ovál 24" descr=""/>
            <p:cNvPicPr/>
            <p:nvPr/>
          </p:nvPicPr>
          <p:blipFill>
            <a:blip r:embed="rId1"/>
            <a:stretch/>
          </p:blipFill>
          <p:spPr>
            <a:xfrm>
              <a:off x="4383000" y="6443640"/>
              <a:ext cx="7254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ál 25"/>
            <p:cNvSpPr/>
            <p:nvPr/>
          </p:nvSpPr>
          <p:spPr>
            <a:xfrm>
              <a:off x="6356520" y="7050240"/>
              <a:ext cx="447480" cy="44604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1" name="Textové pole 41"/>
            <p:cNvSpPr/>
            <p:nvPr/>
          </p:nvSpPr>
          <p:spPr>
            <a:xfrm>
              <a:off x="6991560" y="7116840"/>
              <a:ext cx="2641320" cy="352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5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xperimentálne lokality </a:t>
              </a:r>
              <a:endParaRPr b="0" lang="en-US" sz="15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2" name="Obdĺžnik 27"/>
            <p:cNvSpPr/>
            <p:nvPr/>
          </p:nvSpPr>
          <p:spPr>
            <a:xfrm>
              <a:off x="6356520" y="2065320"/>
              <a:ext cx="1766880" cy="852480"/>
            </a:xfrm>
            <a:prstGeom prst="rect">
              <a:avLst/>
            </a:prstGeom>
            <a:solidFill>
              <a:srgbClr val="a5a5e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3" name="Obdĺžnik 28"/>
            <p:cNvSpPr/>
            <p:nvPr/>
          </p:nvSpPr>
          <p:spPr>
            <a:xfrm>
              <a:off x="8088480" y="2065320"/>
              <a:ext cx="1544400" cy="853920"/>
            </a:xfrm>
            <a:prstGeom prst="rect">
              <a:avLst/>
            </a:prstGeom>
            <a:solidFill>
              <a:srgbClr val="a5a5e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Mierka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4" name="Obdĺžnik 29"/>
            <p:cNvSpPr/>
            <p:nvPr/>
          </p:nvSpPr>
          <p:spPr>
            <a:xfrm>
              <a:off x="9632880" y="2065320"/>
              <a:ext cx="1542960" cy="853920"/>
            </a:xfrm>
            <a:prstGeom prst="rect">
              <a:avLst/>
            </a:prstGeom>
            <a:solidFill>
              <a:srgbClr val="a5a5e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Aktivity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pic>
          <p:nvPicPr>
            <p:cNvPr id="205" name="Ovál 30" descr=""/>
            <p:cNvPicPr/>
            <p:nvPr/>
          </p:nvPicPr>
          <p:blipFill>
            <a:blip r:embed="rId2"/>
            <a:stretch/>
          </p:blipFill>
          <p:spPr>
            <a:xfrm>
              <a:off x="6278760" y="7888320"/>
              <a:ext cx="60336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ové pole 63"/>
            <p:cNvSpPr/>
            <p:nvPr/>
          </p:nvSpPr>
          <p:spPr>
            <a:xfrm>
              <a:off x="6991560" y="7902720"/>
              <a:ext cx="879480" cy="352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5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aják </a:t>
              </a:r>
              <a:endParaRPr b="0" lang="en-US" sz="15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7" name="Obdĺžnik 32"/>
            <p:cNvSpPr/>
            <p:nvPr/>
          </p:nvSpPr>
          <p:spPr>
            <a:xfrm>
              <a:off x="11176200" y="2065320"/>
              <a:ext cx="1544400" cy="853920"/>
            </a:xfrm>
            <a:prstGeom prst="rect">
              <a:avLst/>
            </a:prstGeom>
            <a:solidFill>
              <a:srgbClr val="a5a5e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Zlepšenie zdravia pôdy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8" name="Obdĺžnik 33"/>
            <p:cNvSpPr/>
            <p:nvPr/>
          </p:nvSpPr>
          <p:spPr>
            <a:xfrm>
              <a:off x="6356520" y="2919240"/>
              <a:ext cx="1731960" cy="852480"/>
            </a:xfrm>
            <a:prstGeom prst="rect">
              <a:avLst/>
            </a:prstGeom>
            <a:solidFill>
              <a:srgbClr val="adadeb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Živé laboratórium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09" name="Obdĺžnik 34"/>
            <p:cNvSpPr/>
            <p:nvPr/>
          </p:nvSpPr>
          <p:spPr>
            <a:xfrm>
              <a:off x="11176200" y="2919240"/>
              <a:ext cx="154440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Prebieha v mierke krajiny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 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0" name="Obdĺžnik 35"/>
            <p:cNvSpPr/>
            <p:nvPr/>
          </p:nvSpPr>
          <p:spPr>
            <a:xfrm>
              <a:off x="8088480" y="2919240"/>
              <a:ext cx="154440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Regionálna/sub-regionálna</a:t>
              </a: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 krajina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1" name="Obdĺžnik 36"/>
            <p:cNvSpPr/>
            <p:nvPr/>
          </p:nvSpPr>
          <p:spPr>
            <a:xfrm>
              <a:off x="6356520" y="3771720"/>
              <a:ext cx="1731960" cy="85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Experimentálne lokality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2" name="Obdĺžnik 37"/>
            <p:cNvSpPr/>
            <p:nvPr/>
          </p:nvSpPr>
          <p:spPr>
            <a:xfrm>
              <a:off x="11176200" y="3771720"/>
              <a:ext cx="1544400" cy="8539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Prebieha v mierke lokality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3" name="Obdĺžnik 38"/>
            <p:cNvSpPr/>
            <p:nvPr/>
          </p:nvSpPr>
          <p:spPr>
            <a:xfrm>
              <a:off x="9632880" y="2919240"/>
              <a:ext cx="154296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Koordinácia experimentov a partnerov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4" name="Obdĺžnik 39"/>
            <p:cNvSpPr/>
            <p:nvPr/>
          </p:nvSpPr>
          <p:spPr>
            <a:xfrm>
              <a:off x="8088480" y="3771720"/>
              <a:ext cx="1544400" cy="8539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Lokálna</a:t>
              </a: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 (jedna farma/les/urbánne miesto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5" name="Obdĺžnik 40"/>
            <p:cNvSpPr/>
            <p:nvPr/>
          </p:nvSpPr>
          <p:spPr>
            <a:xfrm>
              <a:off x="6356520" y="4626000"/>
              <a:ext cx="1731960" cy="852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7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Maják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6" name="Obdĺžnik 41"/>
            <p:cNvSpPr/>
            <p:nvPr/>
          </p:nvSpPr>
          <p:spPr>
            <a:xfrm>
              <a:off x="11176200" y="4626000"/>
              <a:ext cx="154440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Preukázaná demonštrácia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7" name="Obdĺžnik 42"/>
            <p:cNvSpPr/>
            <p:nvPr/>
          </p:nvSpPr>
          <p:spPr>
            <a:xfrm>
              <a:off x="9632880" y="3771720"/>
              <a:ext cx="1542960" cy="8539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Spolutvorba poznatkov a inovácií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8" name="Obdĺžnik 43"/>
            <p:cNvSpPr/>
            <p:nvPr/>
          </p:nvSpPr>
          <p:spPr>
            <a:xfrm>
              <a:off x="8088480" y="4626000"/>
              <a:ext cx="154440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Lokálna </a:t>
              </a: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(jedna farma/les/urbánne miesto 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219" name="Obdĺžnik 44"/>
            <p:cNvSpPr/>
            <p:nvPr/>
          </p:nvSpPr>
          <p:spPr>
            <a:xfrm>
              <a:off x="9632880" y="4626000"/>
              <a:ext cx="1542960" cy="852480"/>
            </a:xfrm>
            <a:prstGeom prst="rect">
              <a:avLst/>
            </a:prstGeom>
            <a:solidFill>
              <a:srgbClr val="c2fff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Helvetica Light"/>
                  <a:ea typeface="Calibri"/>
                </a:rPr>
                <a:t>Experiment a/alebo demonštrácia</a:t>
              </a:r>
              <a:endParaRPr b="0" lang="en-US" sz="14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pic>
          <p:nvPicPr>
            <p:cNvPr id="220" name="Ovál 45" descr=""/>
            <p:cNvPicPr/>
            <p:nvPr/>
          </p:nvPicPr>
          <p:blipFill>
            <a:blip r:embed="rId3"/>
            <a:stretch/>
          </p:blipFill>
          <p:spPr>
            <a:xfrm>
              <a:off x="4663440" y="5102280"/>
              <a:ext cx="7254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ové pole 13"/>
            <p:cNvSpPr/>
            <p:nvPr/>
          </p:nvSpPr>
          <p:spPr>
            <a:xfrm>
              <a:off x="2806560" y="5654520"/>
              <a:ext cx="1098360" cy="744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7000"/>
                </a:lnSpc>
                <a:spcBef>
                  <a:spcPts val="8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k-SK" sz="17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iacerí partneri</a:t>
              </a:r>
              <a:endParaRPr b="0" lang="en-US" sz="17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144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Majáky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63120" y="1395000"/>
            <a:ext cx="11703240" cy="72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Sú individuálne, miestne lokality - 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kľúčové miesta na demonštráciu riešení, školení a komunikácie, ktoré sú vo svojom výkone vzorové a z hľadiska zdravia pôdy evidujú zlepšenie</a:t>
            </a:r>
            <a:r>
              <a:rPr b="0" lang="sk-SK" sz="4000" spc="-1" strike="noStrike">
                <a:solidFill>
                  <a:srgbClr val="32946a"/>
                </a:solidFill>
                <a:latin typeface="Helvetica Light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(jedna farma, jeden lesná ťažba, jeden priemyselný areál, jedna mestská zeleň a pod.),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Všetky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experimentálne miesta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v rámci živých laboratórií sa snažia dosiahnuť výkon majákov a stať sa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demonštračnými príkladmi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.</a:t>
            </a:r>
            <a:r>
              <a:rPr b="1" lang="sk-SK" sz="4000" spc="-1" strike="noStrike">
                <a:solidFill>
                  <a:srgbClr val="0070c0"/>
                </a:solidFill>
                <a:latin typeface="Helvetica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Majáky sú miestami na demonštráciu riešení a vzorových úspechov</a:t>
            </a:r>
            <a:r>
              <a:rPr b="0" lang="sk-SK" sz="4000" spc="-1" strike="noStrike">
                <a:solidFill>
                  <a:srgbClr val="009973"/>
                </a:solidFill>
                <a:latin typeface="Helvetica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35880" indent="-3358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35880" indent="-3358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22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8000" spc="-1" strike="noStrike">
                <a:solidFill>
                  <a:srgbClr val="0070c0"/>
                </a:solidFill>
                <a:latin typeface="Helvetica Light"/>
              </a:rPr>
              <a:t>Prosím podpíšte </a:t>
            </a:r>
            <a:br>
              <a:rPr sz="8000"/>
            </a:br>
            <a:r>
              <a:rPr b="1" i="1" lang="sk-SK" sz="8000" spc="-1" strike="noStrike">
                <a:solidFill>
                  <a:srgbClr val="0070c0"/>
                </a:solidFill>
                <a:latin typeface="Helvetica Light"/>
              </a:rPr>
              <a:t>Manifest o pôde EÚ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0440" y="3147840"/>
            <a:ext cx="1170288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Helvetica Light"/>
              </a:rPr>
              <a:t>Európska komisia, Generálne riaditeľstvo pre výskum a inovácie, </a:t>
            </a:r>
            <a:r>
              <a:rPr b="0" i="1" lang="sk-SK" sz="3600" spc="-1" strike="noStrike">
                <a:solidFill>
                  <a:srgbClr val="000000"/>
                </a:solidFill>
                <a:latin typeface="Helvetica Light"/>
              </a:rPr>
              <a:t>Mission soil manifesto – </a:t>
            </a:r>
            <a:r>
              <a:rPr b="0" lang="sk-SK" sz="3600" spc="-1" strike="noStrike">
                <a:solidFill>
                  <a:srgbClr val="000000"/>
                </a:solidFill>
                <a:latin typeface="Helvetica Light"/>
              </a:rPr>
              <a:t>oficiálna publikácia Európskej únie 2023 na webovej stránke</a:t>
            </a:r>
            <a:r>
              <a:rPr b="0" lang="sk-SK" sz="3600" spc="-1" strike="noStrike">
                <a:solidFill>
                  <a:srgbClr val="666666"/>
                </a:solidFill>
                <a:latin typeface="Helvetica Light"/>
              </a:rPr>
              <a:t> </a:t>
            </a:r>
            <a:br>
              <a:rPr sz="3600"/>
            </a:br>
            <a:r>
              <a:rPr b="0" lang="sk-SK" sz="3600" spc="-1" strike="noStrike" u="sng">
                <a:solidFill>
                  <a:srgbClr val="ccccff"/>
                </a:solidFill>
                <a:uFillTx/>
                <a:latin typeface="Helvetica Light"/>
                <a:hlinkClick r:id="rId1"/>
              </a:rPr>
              <a:t>https://data.europa.eu/doi/10.2777/9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Helvetica Light"/>
              </a:rPr>
              <a:t>Podpíšte sa na linke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https://ec.europa.eu/eusurvey/runner/mission-soil-manifesto#page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bdĺžnik 6"/>
          <p:cNvSpPr/>
          <p:nvPr/>
        </p:nvSpPr>
        <p:spPr>
          <a:xfrm>
            <a:off x="165240" y="4587840"/>
            <a:ext cx="1172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000" spc="-1" strike="noStrike">
                <a:solidFill>
                  <a:srgbClr val="336600"/>
                </a:solidFill>
                <a:latin typeface="Helvetica Light"/>
              </a:rPr>
              <a:t>Ďakujem za pozornosť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227" name="Obrázok 1" descr="LogoSAPV"/>
          <p:cNvPicPr/>
          <p:nvPr/>
        </p:nvPicPr>
        <p:blipFill>
          <a:blip r:embed="rId1"/>
          <a:stretch/>
        </p:blipFill>
        <p:spPr>
          <a:xfrm>
            <a:off x="10837800" y="563400"/>
            <a:ext cx="1584360" cy="145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596880" y="563400"/>
            <a:ext cx="950436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Nadpis 1"/>
          <p:cNvSpPr/>
          <p:nvPr/>
        </p:nvSpPr>
        <p:spPr>
          <a:xfrm>
            <a:off x="741240" y="268200"/>
            <a:ext cx="1144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pt-BR" sz="4400" spc="-1" strike="noStrike">
                <a:solidFill>
                  <a:srgbClr val="0070c0"/>
                </a:solidFill>
                <a:latin typeface="Helvetica Light"/>
              </a:rPr>
              <a:t>V súlade s organizáciami OSN je prioritou udržateľné hospodárenie s prírodnými zdrojmi (pôda-voda-biomasa)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7" name="Obdĺžnik 2"/>
          <p:cNvSpPr/>
          <p:nvPr/>
        </p:nvSpPr>
        <p:spPr>
          <a:xfrm>
            <a:off x="731880" y="2500200"/>
            <a:ext cx="11950560" cy="72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UN Agenda 2030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ciele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 2, 3, </a:t>
            </a: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, 11, </a:t>
            </a: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13, 15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UN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 </a:t>
            </a: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FCCC/COP 21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adaptačné opatrenia v poľnohospodárstve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UNCCD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neutralita degradácie krajiny 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(LDN)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CBD/IPBES</a:t>
            </a:r>
            <a:r>
              <a:rPr b="1" lang="en-US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degradácia krajiny a obnova, hodnotenie znižovania biodiverzity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GSP/FAO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5 pilierov udržateľného manažmentu pôd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Black Soils Network/FAO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celosvetová ochrana tmavých molických pôd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 lvl="1" marL="569880" indent="-569880">
              <a:lnSpc>
                <a:spcPct val="90000"/>
              </a:lnSpc>
              <a:buClr>
                <a:srgbClr val="00997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UNEA</a:t>
            </a:r>
            <a:r>
              <a:rPr b="1" lang="en-US" sz="4000" spc="-1" strike="noStrike">
                <a:solidFill>
                  <a:srgbClr val="009973"/>
                </a:solidFill>
                <a:latin typeface="Helvetica Light"/>
                <a:ea typeface="Helvetica Light"/>
              </a:rPr>
              <a:t>-3: 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Smerom k nulovému znečisteniu planéty</a:t>
            </a: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440" y="372960"/>
            <a:ext cx="1170324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Európska Zelená dohoda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07520" y="1592280"/>
            <a:ext cx="121856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57040" indent="-25704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900" spc="-1" strike="noStrike">
                <a:solidFill>
                  <a:srgbClr val="000000"/>
                </a:solidFill>
                <a:latin typeface="Helvetica Light"/>
              </a:rPr>
              <a:t>Klimatická zmena a zhoršovanie životného prostredia sú </a:t>
            </a:r>
            <a:r>
              <a:rPr b="1" lang="sk-SK" sz="3900" spc="-1" strike="noStrike">
                <a:solidFill>
                  <a:srgbClr val="009973"/>
                </a:solidFill>
                <a:latin typeface="Helvetica Light"/>
              </a:rPr>
              <a:t>existenčnou hrozbou pre Európu a celý svet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257040" indent="-25704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Helvetica Light"/>
              </a:rPr>
              <a:t>Na prekonanie týchto výziev premení Európska zelená dohoda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</a:rPr>
              <a:t>EÚ na modernú, zdrojovo efektívne a konkurencieschopnú ekonomiku</a:t>
            </a:r>
            <a:r>
              <a:rPr b="1" lang="sk-SK" sz="4000" spc="-1" strike="noStrike">
                <a:solidFill>
                  <a:srgbClr val="000000"/>
                </a:solidFill>
                <a:latin typeface="Helvetica Light"/>
              </a:rPr>
              <a:t>, ktorá zabezpečí: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Helvetica Light"/>
              </a:rPr>
              <a:t>žiadne emisie skleníkových plynov do roku 2050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Helvetica Light"/>
              </a:rPr>
              <a:t>prvý klimaticky neutrálny kontinent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257040" indent="-257040"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57040" indent="-25704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30" name="Picture 2" descr="1,605 European Green Deal Images, Stock Photos &amp; Vectors ..."/>
          <p:cNvPicPr/>
          <p:nvPr/>
        </p:nvPicPr>
        <p:blipFill>
          <a:blip r:embed="rId1"/>
          <a:stretch/>
        </p:blipFill>
        <p:spPr>
          <a:xfrm>
            <a:off x="5221440" y="6858000"/>
            <a:ext cx="2560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84160" y="1635120"/>
            <a:ext cx="11701440" cy="750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Ambícia Európy stať sa prvým</a:t>
            </a:r>
            <a:r>
              <a:rPr b="1" lang="sk-SK" sz="4000" spc="-1" strike="noStrike">
                <a:solidFill>
                  <a:srgbClr val="32946a"/>
                </a:solidFill>
                <a:latin typeface="Helvetica Light"/>
              </a:rPr>
              <a:t> klimaticky neutrálnym kontinentom do roku 2050 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a je neoddeliteľnou súčasťou viacerých stratégií </a:t>
            </a:r>
            <a:r>
              <a:rPr b="1" lang="sk-SK" sz="4000" spc="-1" strike="noStrike" u="sng">
                <a:solidFill>
                  <a:srgbClr val="32946a"/>
                </a:solidFill>
                <a:uFillTx/>
                <a:latin typeface="Helvetica Light"/>
              </a:rPr>
              <a:t>Zelenej Dohody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Stratégia z farmy na stô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Stratégia EÚ pre biodiverzitu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Stratégia prispôsobenia sa zmene klím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Akčný plán pre nulové znečistenie ovzdušia, vody a pôd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Nová stratégia lesného hospodárstva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Dlhodobá vízia pre vidiecke oblast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Akčný plán pre organickú produkciu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Komisia pre strategické plány SPP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Akčný plán pre cirkulárnu ekonomiku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Helvetica Light"/>
              </a:rPr>
              <a:t>- Ciele EÚ na obnovu prírody (NATURA)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spcBef>
                <a:spcPts val="42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Nadpis 1"/>
          <p:cNvSpPr/>
          <p:nvPr/>
        </p:nvSpPr>
        <p:spPr>
          <a:xfrm>
            <a:off x="452520" y="268200"/>
            <a:ext cx="11701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Politika EÚ pre pôdy </a:t>
            </a:r>
            <a:endParaRPr b="0" lang="en-US" sz="66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8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000" spc="-1" strike="noStrike">
                <a:solidFill>
                  <a:srgbClr val="0070c0"/>
                </a:solidFill>
                <a:latin typeface="Helvetica Light"/>
              </a:rPr>
              <a:t>Všetky členské štáty EÚ čelia  degradácii pôdy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0440" y="2300400"/>
            <a:ext cx="11899800" cy="68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42880" indent="-542880">
              <a:spcBef>
                <a:spcPts val="42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Calibri"/>
              </a:rPr>
              <a:t>Približne 60 až 70 % pôdy v EÚ je v súčasnosti nezdravých</a:t>
            </a:r>
            <a:r>
              <a:rPr b="0" lang="sk-SK" sz="4000" spc="-1" strike="noStrike">
                <a:solidFill>
                  <a:srgbClr val="000000"/>
                </a:solidFill>
                <a:latin typeface="Helvetica Light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542880" indent="-54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  <a:ea typeface="Calibri"/>
              </a:rPr>
              <a:t>Degradačné procesy neustále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Calibri"/>
              </a:rPr>
              <a:t>pokračujú a zhoršujú sa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542880" indent="-54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  <a:ea typeface="Calibri"/>
              </a:rPr>
              <a:t>Príčiny a dopady presahujú hranice krajín a znižujú poskytovanie ekosystémových služieb pôd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542880" indent="-54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Helvetica Light"/>
                <a:ea typeface="Calibri"/>
              </a:rPr>
              <a:t>Riziká pre </a:t>
            </a:r>
            <a:r>
              <a:rPr b="1" lang="sk-SK" sz="4000" spc="-1" strike="noStrike">
                <a:solidFill>
                  <a:srgbClr val="009973"/>
                </a:solidFill>
                <a:latin typeface="Helvetica Light"/>
                <a:ea typeface="Calibri"/>
              </a:rPr>
              <a:t>ľudské zdravie, životné prostredie, klímu, hospodárstvo a spoločnosť potravinovú bezpečnosť, kvalitu vody a pôdy, produkciu biomasy, emisie uhlíka a stratu biodiverzity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542880" indent="-542880">
              <a:spcBef>
                <a:spcPts val="42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600" y="608040"/>
            <a:ext cx="1238400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600" spc="-1" strike="noStrike">
                <a:solidFill>
                  <a:srgbClr val="0070c0"/>
                </a:solidFill>
                <a:latin typeface="Helvetica Light"/>
              </a:rPr>
              <a:t>Stratégia EÚ pre pôdu do 2030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0880" y="2443320"/>
            <a:ext cx="11701440" cy="64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sk-SK" sz="4000" spc="-1" strike="noStrike">
                <a:solidFill>
                  <a:srgbClr val="000000"/>
                </a:solidFill>
                <a:latin typeface="Helvetica Light"/>
              </a:rPr>
              <a:t>zo dňa </a:t>
            </a:r>
            <a:r>
              <a:rPr b="1" i="1" lang="sk-SK" sz="4000" spc="-1" strike="noStrike" u="sng">
                <a:solidFill>
                  <a:srgbClr val="009973"/>
                </a:solidFill>
                <a:uFillTx/>
                <a:latin typeface="Helvetica Light"/>
              </a:rPr>
              <a:t>17.11. 2021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4000" spc="-1" strike="noStrike">
                <a:solidFill>
                  <a:srgbClr val="009973"/>
                </a:solidFill>
                <a:latin typeface="Helvetica Light"/>
              </a:rPr>
              <a:t>Využívanie prínosov zdravej pôdy v prospech ľudí, potravín, prírody a klímy </a:t>
            </a:r>
            <a:r>
              <a:rPr b="0" i="1" lang="sk-SK" sz="4000" spc="-1" strike="noStrike">
                <a:solidFill>
                  <a:srgbClr val="000000"/>
                </a:solidFill>
                <a:latin typeface="Helvetica Light"/>
              </a:rPr>
              <a:t>a k nemu riešený </a:t>
            </a:r>
            <a:r>
              <a:rPr b="1" i="1" lang="sk-SK" sz="4000" spc="-1" strike="noStrike">
                <a:solidFill>
                  <a:srgbClr val="32946a"/>
                </a:solidFill>
                <a:latin typeface="Helvetica Light"/>
              </a:rPr>
              <a:t>Zákon o zdraví pôdy, neskôr Smernica o monitoringu a odolnosti pôdy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343080" indent="-34308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37" name="Obrázok 3" descr=""/>
          <p:cNvPicPr/>
          <p:nvPr/>
        </p:nvPicPr>
        <p:blipFill>
          <a:blip r:embed="rId1"/>
          <a:stretch/>
        </p:blipFill>
        <p:spPr>
          <a:xfrm>
            <a:off x="3122640" y="5648400"/>
            <a:ext cx="56610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598320" y="844560"/>
            <a:ext cx="116636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6840" y="654120"/>
            <a:ext cx="9194760" cy="20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sk-SK" sz="6000" spc="-1" strike="noStrike">
                <a:solidFill>
                  <a:srgbClr val="0070c0"/>
                </a:solidFill>
                <a:latin typeface="Helvetica Light"/>
              </a:rPr>
              <a:t>Smernica o monitoringu a odolnosti pôdy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86840" y="2724120"/>
            <a:ext cx="1200492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333333"/>
                </a:solidFill>
                <a:latin typeface="Helvetica Light"/>
              </a:rPr>
              <a:t>Pôdy sú kľúčové pre potraviny, prírodu a našu ekonomiku a </a:t>
            </a:r>
            <a:r>
              <a:rPr b="1" lang="sk-SK" sz="4400" spc="-1" strike="noStrike">
                <a:solidFill>
                  <a:srgbClr val="009973"/>
                </a:solidFill>
                <a:latin typeface="Helvetica Light"/>
              </a:rPr>
              <a:t>zaslúžia si rovnakú úroveň ochrany ako voda, vzduch alebo moria.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315360" indent="-31536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404040"/>
                </a:solidFill>
                <a:latin typeface="Helvetica Light"/>
              </a:rPr>
              <a:t>V prvom rade sa identifikujú kľúčové hrozby pre pôdu v EÚ, ako sú </a:t>
            </a:r>
            <a:r>
              <a:rPr b="1" lang="sk-SK" sz="4400" spc="-1" strike="noStrike">
                <a:solidFill>
                  <a:srgbClr val="009973"/>
                </a:solidFill>
                <a:latin typeface="Helvetica Light"/>
              </a:rPr>
              <a:t>erózia, záplavy a zosuvy pôdy, strata organickej hmoty v pôde, salinizácia, kontaminácia, zhutnenie, nepriepustnosť, ako aj strata biodiverzity pôdy.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315360" indent="-315360">
              <a:spcBef>
                <a:spcPts val="4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1" name="Picture 2" descr="Public consultation on Soil Health Law is open"/>
          <p:cNvPicPr/>
          <p:nvPr/>
        </p:nvPicPr>
        <p:blipFill>
          <a:blip r:embed="rId1"/>
          <a:stretch/>
        </p:blipFill>
        <p:spPr>
          <a:xfrm>
            <a:off x="9599760" y="379440"/>
            <a:ext cx="32162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Pekárová Eva</cp:lastModifiedBy>
  <dcterms:modified xsi:type="dcterms:W3CDTF">2023-11-14T09:04:46Z</dcterms:modified>
  <cp:revision>123</cp:revision>
  <dc:subject/>
  <dc:title>Prezentácia programu PowerPoint</dc:title>
</cp:coreProperties>
</file>